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FDC-004A-491F-BA3D-C225F9A1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051-A6DB-4CBC-A7F0-6C5E4D9E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C37-454B-4A19-9368-30F43F59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016-1611-4773-865D-A52737FA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A1D-1950-43E1-B281-1E9447D6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554-BEA1-4787-A4EF-C68DCE7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B56-CCC2-40B1-8894-E1B20068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BC2-7D12-49DD-8319-B2A6A90F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192-F059-4BCB-A2BB-8F478B64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B6C-0905-4D4D-AA5E-4A97FCFF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358-920B-4542-A3B2-EC47166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9E7-9274-42C1-ADC2-B4609397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DD9-5E55-41D9-9C64-5D1B7D2EB0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arnock Valley Ex Presidents"/>
          <p:cNvPicPr/>
          <p:nvPr/>
        </p:nvPicPr>
        <p:blipFill>
          <a:blip r:embed="rId1"/>
          <a:stretch/>
        </p:blipFill>
        <p:spPr>
          <a:xfrm>
            <a:off x="452520" y="28584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am O'Shanter Club"/>
          <p:cNvPicPr/>
          <p:nvPr/>
        </p:nvPicPr>
        <p:blipFill>
          <a:blip r:embed="rId2"/>
          <a:stretch/>
        </p:blipFill>
        <p:spPr>
          <a:xfrm>
            <a:off x="2238480" y="285840"/>
            <a:ext cx="987480" cy="1266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  PRESIDENTS     TAM  O’SHANTER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9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8:56:55Z</dcterms:created>
  <dc:creator>HP authorized customer</dc:creator>
  <dc:description/>
  <dc:language>en-US</dc:language>
  <cp:lastModifiedBy>John</cp:lastModifiedBy>
  <dcterms:modified xsi:type="dcterms:W3CDTF">2010-02-14T14:26:20Z</dcterms:modified>
  <cp:revision>7</cp:revision>
  <dc:subject/>
  <dc:title>Slide 1</dc:title>
</cp:coreProperties>
</file>